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74D-36E4-4873-8FCD-FC100828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D25-4546-471E-A067-B6A85770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900-668E-42DF-ACFF-B3053099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9CD-3E80-4BB4-98FC-1A59C34B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535-5BC1-4A17-8B2D-AAA95C50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7EE-70CE-4730-AD0C-F5A8DEF3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628-A905-476B-BCED-FAF426F2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F97-79C9-4931-9563-F98B33E2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C29-666B-4964-A89C-E4F5CC00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06F-B9DA-4C18-B5A0-ABDEE84B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E2D-3C0B-4A6F-B365-B20A5E2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FB7-08E0-4AAD-909C-DB17C74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38B0-2B5B-4540-905A-304130048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een_alcatraz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ieczka przed Alcatra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59436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zentacja pomysł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wag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końc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29528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a oczywiście nie jest kompletna. Jest to tylko rozbudowany zarys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lka przykładowych kart więźniów, umiejętności i wydarzeń zawiera instrukcj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8862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 razie niejasności czy pytań proszę o kontak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334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dres usunięty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@o2.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06668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Życie w więzieniu Luiswile mijało spokojnie.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jaźni, swojscy strażnicy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zelnik zajęty swoimi sprawami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kie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liwości handlu i zdobywania używ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przyjemne czasy jednak minęły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06668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ńca dobiegła budowa nowego więzienia Alcatra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oczesne więzienie znajdujące się na wyspie to miejsce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dzie życie nie będzie tak przyjem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iejsce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dzie będą siedzieć najgorsi z najgorszy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yna szansa to ucieczka, ucieczka przed przeniesieni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80880"/>
            <a:ext cx="830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oczyna się wyścig z czas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guj szybk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ze zarządzaj personele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eszkadzaj konkurencji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rwszy przygotuj plan ucieczki i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19520" y="289548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Ucieknij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80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Ucieczka przed Alcatraz to towarzyska gra karciana przeznaczona dla co najmniej 2 osó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Gra skupia się na zarządzaniu grupą więźniów planujących ucieczkę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Codzienne patrole strażników i konkurencyjne grupy skutecznie utrudniają osiągnięcie cel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380880"/>
            <a:ext cx="8305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łaściwe planowanie działań i przydział więźniów do odpowiednich zadań to sedno g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awsze jednak może wydarzyć się coś niespodziewanego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iespodziewane przeniesienie kluczowego członka grupy, bójka która skieruje go do karceru, zatrucie więziennym jedzen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iężkie jest życie uciekinie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80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chanika oparta jest o przydzielania więźniów do określonych działań i zbieranie punktów ucieczk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ment losowy to przede wszystkim nieprzewidywalne zdarzenia, na które należy reagować i przeciwdziałanie działaniom konkurencyjnych gru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76212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lka charakterystyk i umiejętności tworzy ogromną liczbę różnych więźnió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ża liczba kart wszelkiego rodzaju, z czego wykorzystywana jest tylko część, sprawia, że każda rozgrywka jest inna i niepowtarzal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2:14:50Z</dcterms:created>
  <dc:creator>Ktos</dc:creator>
  <dc:description/>
  <dc:language>en-US</dc:language>
  <cp:lastModifiedBy>Robert</cp:lastModifiedBy>
  <dcterms:modified xsi:type="dcterms:W3CDTF">2009-08-28T12:40:10Z</dcterms:modified>
  <cp:revision>14</cp:revision>
  <dc:subject/>
  <dc:title>Ucieczka przed Alcatraz</dc:title>
</cp:coreProperties>
</file>